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EBD2-4172-44A6-A27E-44B6267D9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3660E-FAAD-441D-A59B-098D20C7E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0D2-6737-484F-BED8-E7725BF0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C51-6F0F-4BFE-B66B-367EFB44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521-CF56-407E-96BD-AE47234E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CDC-3BAB-487F-919D-FD33EF2D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BC5-A31F-4E91-B7DD-12D50F4B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77E-7D23-4834-B616-98E0A65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447-2D81-48EE-9468-192211B5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D58-124C-4E03-B724-B9D6F4A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85E-EA95-4B39-BABE-E030DC0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B5E-7CDF-423F-8FD0-98E91C9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C21-1D23-444C-A74E-4E93BAC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7DF-5A82-44ED-A0E2-E2C4FE9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02E54-B820-4866-A81B-B27F80C851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113200" y="2379600"/>
            <a:ext cx="587448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ome In Heav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7640" y="6227640"/>
            <a:ext cx="231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on't let me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'll wipe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ars from my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ever to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been for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m on my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hi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ll see my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ace to 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92040" y="465120"/>
            <a:ext cx="9688680" cy="69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ough I once was 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esus, he found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 blood 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get to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ll see you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heaven,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've got a hom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</dc:creator>
  <dc:description/>
  <dc:language>en-US</dc:language>
  <cp:lastModifiedBy>Peter</cp:lastModifiedBy>
  <dcterms:modified xsi:type="dcterms:W3CDTF">2011-04-15T17:53:20Z</dcterms:modified>
  <cp:revision>5</cp:revision>
  <dc:subject/>
  <dc:title>Slide 1</dc:title>
</cp:coreProperties>
</file>